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D13-CE59-4A0A-8E2C-12C34A128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3C5-1842-43BC-9E70-FF4F2A89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3ED4-D827-455A-9A1F-FE178E07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226-3B5F-4B8F-ADF2-2D3741E6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2C54-36A9-474A-A1B4-7E1B48FB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F124-32C7-4F0C-9A39-C04BA037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7AA6-5C25-43C4-9F0F-63F1A108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A053-098E-4887-B411-6482B28E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9574-59CF-4CF3-9555-7E3B3B66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3D6E-5181-4788-B58E-27A59F2F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E782-E36D-4AE3-B062-AC1017F8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1327-F8E0-4BB1-8FE1-43CA4515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4128-B811-4F6A-ADDB-30C55F73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93BD-8C9D-48E2-A651-B5C38981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C3AE-7504-4C9D-B456-C1D2C617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6591-C718-4F21-9155-4B6E058E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A8E4-4562-4147-BF82-ACDE11D7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29E-6979-4D99-A63F-3FDF86E5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1CA-7E8B-4D81-BB41-2A11AC0F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82E-1362-4C9A-B396-8FB7C2AD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F3D-F42B-46DC-85AD-B77C6726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CFE-FFFC-4BB6-823E-5E871CD7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E468-1129-4C09-855A-4F95E7E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9ED-4E91-4D95-89DF-2A3F5BF2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0A49-D424-4A40-B100-8ECA3D0DE9AD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0C4A-B5ED-41E4-B268-2C50785E4B5A}" type="slidenum">
              <a:rPr b="1" lang="en-US" sz="1000" spc="-1" strike="noStrike">
                <a:solidFill>
                  <a:srgbClr val="000000"/>
                </a:solidFill>
                <a:latin typeface="Eurostile"/>
                <a:ea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KOREAN LANGU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LVEL 1 (NOVICE)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General Course Information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Instructor: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Transitional Page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321720"/>
            <a:ext cx="91440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ko-KR" sz="2400" spc="-1" strike="noStrike">
              <a:solidFill>
                <a:srgbClr val="000000"/>
              </a:solidFill>
              <a:latin typeface="Eurostile"/>
              <a:ea typeface="굴림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  <a:ea typeface="굴림"/>
              </a:rPr>
              <a:t>Your Topic Goes Here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819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74e75"/>
                </a:solidFill>
                <a:latin typeface="Impact"/>
                <a:ea typeface="굴림"/>
              </a:rPr>
              <a:t>Elements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  <a:ea typeface="굴림"/>
              </a:rPr>
              <a:t>www.animationfactory.com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92" name="Picture 224" descr="Z:\newtek\_backgrounds_1.02\Tim\powerpoint templates\101-120\cloud_skipper\cloud_skipper_prt.jpg"/>
          <p:cNvPicPr/>
          <p:nvPr/>
        </p:nvPicPr>
        <p:blipFill>
          <a:blip r:embed="rId1"/>
          <a:stretch/>
        </p:blipFill>
        <p:spPr>
          <a:xfrm>
            <a:off x="6983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5" descr="Z:\newtek\_backgrounds_1.02\Tim\powerpoint templates\101-120\cloud_skipper\cloud_skipper_qx.jpg"/>
          <p:cNvPicPr/>
          <p:nvPr/>
        </p:nvPicPr>
        <p:blipFill>
          <a:blip r:embed="rId2"/>
          <a:stretch/>
        </p:blipFill>
        <p:spPr>
          <a:xfrm>
            <a:off x="152280" y="5218200"/>
            <a:ext cx="2008440" cy="150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26" descr="Z:\newtek\_backgrounds_1.02\Tim\powerpoint templates\101-120\cloud_skipper\cloud_skipper_sld.jpg"/>
          <p:cNvPicPr/>
          <p:nvPr/>
        </p:nvPicPr>
        <p:blipFill>
          <a:blip r:embed="rId3"/>
          <a:stretch/>
        </p:blipFill>
        <p:spPr>
          <a:xfrm>
            <a:off x="2428920" y="5218200"/>
            <a:ext cx="2009880" cy="1506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27" descr="Z:\newtek\_backgrounds_1.02\Tim\powerpoint templates\101-120\cloud_skipper\cloud_skipper_trs.jpg"/>
          <p:cNvPicPr/>
          <p:nvPr/>
        </p:nvPicPr>
        <p:blipFill>
          <a:blip r:embed="rId4"/>
          <a:stretch/>
        </p:blipFill>
        <p:spPr>
          <a:xfrm>
            <a:off x="4705200" y="5218200"/>
            <a:ext cx="2009880" cy="150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6T08:40:46Z</dcterms:created>
  <dc:creator>jyy</dc:creator>
  <dc:description/>
  <dc:language>en-US</dc:language>
  <cp:lastModifiedBy>jyy</cp:lastModifiedBy>
  <dcterms:modified xsi:type="dcterms:W3CDTF">2012-07-26T08:41:49Z</dcterms:modified>
  <cp:revision>1</cp:revision>
  <dc:subject/>
  <dc:title>KOREAN LANGUAGE</dc:title>
</cp:coreProperties>
</file>